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C474-01C3-4678-8739-35C1A9C9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84CB-8A69-4D2D-BBF9-B8839E62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E03A-4B7A-44B1-805F-452DAA2F5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E26B-F0A3-4437-81C3-5BC1A7FC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6F2A-AB89-4C42-9C51-309784DC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AB5B-F61D-40B1-ACD2-C4A865B2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A9B9-7E30-4EB5-BE40-50EDAF86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0BDA-75E3-4D4A-BB34-34F056B3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A60D-124A-4C43-BEC3-BD5C6AF6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1606-2CB7-48BA-A5F4-1C901212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205B-A487-4140-99C2-68887DD9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5783-2888-48CF-AD0B-FFBC2D49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75AE-1B2D-468A-9390-59596F173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22:39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5-year-ol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ema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knocks on the door of the clinic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he is limp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 ben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sition and says with a suffe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o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For 2 month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I have h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 the ba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m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ft hip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week the pai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uch worse an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s radia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rther dow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left calf. I can not stand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ymore. Pleas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, help me, paracetamol and ketoprofen did not improve my suffering at 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examination of the spine and h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ection (posture, physiological curv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, calf circum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pation and percussion, Homans 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 of motion (outstretched = 0 ° of flexion) of the hip, knee, ank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logical status of the lower extremitie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: mo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one, reflexes, sens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cular attentio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hould be pay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ègu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muscle strength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tremities (walking on their toes / heels, getting up from the squ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fin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ls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uratio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s 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&gt; 3d FAST, ≤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d URG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rmatom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 of hypoesthesia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l examination to tes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3429000" cy="2416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638680" y="2066760"/>
            <a:ext cx="2381400" cy="1590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638680" y="4200480"/>
            <a:ext cx="2381400" cy="1590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295280" y="35812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t examination w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algi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 ga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the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e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ircumferen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educ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umbar lord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Lasègue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e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50°, right ne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O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hips and knee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e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in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educed mus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wer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of the left foot and big toe dorsiflex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evel 4) for 1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esthesia along the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ateral p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left lower 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tal examination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eflexes sym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reliminary diagno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Hernia dis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pondylodisc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eft hip osteoarthr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yndroma </a:t>
            </a:r>
            <a:r>
              <a:rPr b="0" i="1" lang="sl-SI" sz="3200" spc="-1" strike="noStrike">
                <a:solidFill>
                  <a:srgbClr val="000000"/>
                </a:solidFill>
                <a:latin typeface="Arial"/>
              </a:rPr>
              <a:t>caudae equin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ich spinal nerve is affec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at is the next step (at 23h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rong analgesics now, prescription for further analgesia at home, referral for MRI and P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mmediate referral to the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rong analgesic, improvement is expected in 1-2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X-ray of the spine and then further 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tmen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3 week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 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t, analgesia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algesic PTH treatments (TENS,…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fter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in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I for confirmation of diagnosis and decisions regarding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urgi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ra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 this particular case 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gical treatment is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e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mer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5534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en is emergency surgery indi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phincter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uncionally important palsy less than 3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826240" y="3429000"/>
            <a:ext cx="3089160" cy="320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3657600"/>
            <a:ext cx="5334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huch cases should be immediately referred to the hospital with emergency MRI and emergency spinal surgical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57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o whom would you refer such patient 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(it is not emergency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urolog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urosurg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hysical rehabilitation specia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rthopaedic surg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 HERN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history /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xamnination 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not properly assess the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merg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operly ref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 what is urgent (sphincter, paresis ≤ 3d)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, what should be oper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ickly and what does not require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hould 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lain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natu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rse of the disease (2-3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weeks o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in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itfa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atient triage without proper examination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lay in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case o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hincter disorders, inaccurate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ssess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mus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5880" y="457200"/>
            <a:ext cx="259092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533520"/>
            <a:ext cx="5114880" cy="3400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57200" y="4038480"/>
            <a:ext cx="84582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’m so glad surgery was not required. You are such an excellent doctor who healed me in 3 weeks just by applying bioenergy with warm hands. Now I can start Pilates training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What do you do with the pati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mmediate referral to the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eferral to the hospital the next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xamine the patient and then dec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escribe stronger analgesic and examine her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at is important to ask in patient hi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at is important to ask in patient hi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How long has the pain been radiating to the ca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irst time in her lif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ever? Chill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raum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SPHINCTER FUN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ther diseases, medications, aller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4120" y="3743280"/>
            <a:ext cx="3809880" cy="3114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181480" y="228600"/>
            <a:ext cx="3810240" cy="3048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28600" y="957240"/>
            <a:ext cx="48006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patient repl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in radiating to the calf for 10 day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times painful back and hip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d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as to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ver or ch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 trauma or o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igger facto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 at rest, even a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 regular medications 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ler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PHINCTER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efecation is rather infrequ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o every nigh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 e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quarter of a watermelon and drink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1 li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f war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neral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rination is generally O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just yesterday morning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ome urine dro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aked because of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in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did not get to the toilet on time. 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at is our next ste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linical exa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eferral for MRI of the left 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eferral for MRI of the lumbar s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mmediate referral to the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</cp:lastModifiedBy>
  <dcterms:modified xsi:type="dcterms:W3CDTF">2015-01-07T05:06:45Z</dcterms:modified>
  <cp:revision>1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